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01E1C-38FE-44EB-9BC9-39BEE8166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7843-7AD3-4555-8D78-4F91B5787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850B6-BCD9-4A6A-B572-D36E3FF8A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C4044-80B9-444D-98ED-F71E2E6C9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C0E1-F767-4418-9734-6F6360D7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BD82-2E29-475A-BBE1-93536162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CD62-B05C-4203-8597-BB7132B0E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0C19-AB9A-484B-89B0-6F261771D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8DABB-D750-4EA4-971D-AAA70FA6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4C5D-8210-49B3-896B-2EDC582E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9488-B058-4AEC-A413-ED2A51AD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166D-EAE3-4D4E-B619-5AE9DCC58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A588-2230-431A-8E09-8B0BF8FB5C41}"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572760"/>
            <a:ext cx="7993080" cy="4321080"/>
          </a:xfrm>
          <a:prstGeom prst="rect">
            <a:avLst/>
          </a:prstGeom>
          <a:noFill/>
          <a:ln w="0">
            <a:noFill/>
          </a:ln>
        </p:spPr>
        <p:txBody>
          <a:bodyPr lIns="68760" rIns="68760" tIns="34200" bIns="34200" anchor="b">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15.HAFTA</a:t>
            </a:r>
            <a:br>
              <a:rPr sz="3600"/>
            </a:br>
            <a:r>
              <a:rPr b="1" lang="tr-TR" sz="3600" spc="-1" strike="noStrike">
                <a:solidFill>
                  <a:srgbClr val="000000"/>
                </a:solidFill>
                <a:latin typeface="Times New Roman"/>
                <a:ea typeface="Times New Roman"/>
              </a:rPr>
              <a:t>ŞİİR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95280" y="339840"/>
            <a:ext cx="7848720" cy="4535280"/>
          </a:xfrm>
          <a:prstGeom prst="rect">
            <a:avLst/>
          </a:prstGeom>
          <a:noFill/>
          <a:ln w="0">
            <a:noFill/>
          </a:ln>
        </p:spPr>
        <p:txBody>
          <a:bodyPr lIns="68760" rIns="68760" tIns="34200" bIns="34200" anchor="t">
            <a:no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mısralarında diğer bir çok şairin aksine semboller yerine müşahhas yani gerçek görünüşleri kullanır. Gördüklerini ve duyduklarını adetâ objektif olarak ele alır. Cahit Sıtkı, şiirlerinde bir takım imaj ve sembollere başvursa da bunlar gerçeğe yakın imaj ve sembollerdir. Cahit Sıtkı, diğer şairlere nazaran duyularının verilerine daha çok bağlıdır. </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Otuz beş Yaş Şiiri’nin üslup bakımından dikkati çeken bir başka özelliği, günlük konuşma dilinde kullanılan bazı terimlerin biraz değiştirilerek şiire sokulmuş olmasıdır.</a:t>
            </a:r>
            <a:r>
              <a:rPr b="0" lang="tr-TR" sz="2400" spc="-1" strike="noStrike">
                <a:solidFill>
                  <a:srgbClr val="000000"/>
                </a:solidFill>
                <a:latin typeface="Calibri"/>
              </a:rPr>
              <a:t>	</a:t>
            </a:r>
            <a:r>
              <a:rPr b="0" lang="tr-TR" sz="2400" spc="-1" strike="noStrike">
                <a:solidFill>
                  <a:srgbClr val="000000"/>
                </a:solidFill>
                <a:latin typeface="Calibri"/>
              </a:rPr>
              <a:t>Örneğin, «yalvarmak yakarmak nafile bugün», «gözünün yaşına bakmamak», «güler yüzlü adam», «hayal meyal şeyler», «dostlarla da yolların ayrılması», «geç fark etmek» vb.</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74480" y="484200"/>
            <a:ext cx="776916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air, günlük dilde kullanılan bu deyimleri başına sonuna bazı kelimeler ekleyerek şiirine malzeme yapıyor. Cahit Sıtkı’nın şiirdeki gayesi şiirini sade ve tabiî olarak söylemektir. </a:t>
            </a:r>
            <a:r>
              <a:rPr b="0" lang="tr-TR" sz="2400" spc="-1" strike="noStrike">
                <a:solidFill>
                  <a:srgbClr val="000000"/>
                </a:solidFill>
                <a:latin typeface="Calibri"/>
                <a:ea typeface="Times New Roman"/>
              </a:rPr>
              <a:t>Şair, bu düşünceyle şiir sentaksını da çok basit tutar ve mısralarının çoğunu tek cümleden oluşturu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Duyguyu ve yalın duyguyu ön planda tutan Cahit Sıtkı, uzak çağrışımlara ve hayal oyunlarına pek yer vermez. Ölümden korkan, varlık ötesine gitmekten çekinen, yaşadığı ana sımsıkı bağlı olan Cahit Sıtkı’nın açık ve sade bir üslup kullanması duyuş tarzına da uygundur. O, bu üslup tarzıyla kendinden sonra gelen ve «gerçek-üstü» bir şeyler arayan, karışık, anlaşılması güç bir üslupla karşımıza çıkan nesilden ayrı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411120"/>
            <a:ext cx="777564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ynaklar: </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plan, Mehmet, Şiir Tahlilleri  2 - Cumhuriyet Devri Türk Şiiri, Dergâh Yayınları, İst., 2003.</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rasoy, Yakup ve diğerleri, Üniversiteler İçin Uygulamalı Türk Dili ve Kompozisyon Bilgileri, Aybil Yay., Konya, 20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23640" y="484200"/>
            <a:ext cx="777708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Aşağıda bir şiir incelemesinin nasıl yapılacağını gösteren bir örnek göreceksiniz.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 hepinizin çok iyi bildiği şair Cahit Sıtkı TARANCI’nın </a:t>
            </a:r>
            <a:r>
              <a:rPr b="1" lang="tr-TR" sz="2400" spc="-1" strike="noStrike">
                <a:solidFill>
                  <a:srgbClr val="000000"/>
                </a:solidFill>
                <a:latin typeface="Calibri"/>
              </a:rPr>
              <a:t>Otuz Beş Yaş</a:t>
            </a:r>
            <a:r>
              <a:rPr b="0" lang="tr-TR" sz="2400" spc="-1" strike="noStrike">
                <a:solidFill>
                  <a:srgbClr val="000000"/>
                </a:solidFill>
                <a:latin typeface="Calibri"/>
              </a:rPr>
              <a:t> </a:t>
            </a:r>
            <a:r>
              <a:rPr b="1" lang="tr-TR" sz="2400" spc="-1" strike="noStrike">
                <a:solidFill>
                  <a:srgbClr val="000000"/>
                </a:solidFill>
                <a:latin typeface="Calibri"/>
              </a:rPr>
              <a:t>Şiiri’</a:t>
            </a:r>
            <a:r>
              <a:rPr b="0" lang="tr-TR" sz="2400" spc="-1" strike="noStrike">
                <a:solidFill>
                  <a:srgbClr val="000000"/>
                </a:solidFill>
                <a:latin typeface="Calibri"/>
              </a:rPr>
              <a:t>di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şiire yer verilecek, daha sonra Mehmet Kaplan’ın </a:t>
            </a:r>
            <a:r>
              <a:rPr b="0" i="1" lang="tr-TR" sz="2400" spc="-1" strike="noStrike">
                <a:solidFill>
                  <a:srgbClr val="000000"/>
                </a:solidFill>
                <a:latin typeface="Calibri"/>
                <a:ea typeface="Times New Roman"/>
              </a:rPr>
              <a:t>Şiir Tahlilleri 2 - Cumhuriyet Devri Türk Şiiri </a:t>
            </a:r>
            <a:r>
              <a:rPr b="0" lang="tr-TR" sz="2400" spc="-1" strike="noStrike">
                <a:solidFill>
                  <a:srgbClr val="000000"/>
                </a:solidFill>
                <a:latin typeface="Calibri"/>
                <a:ea typeface="Times New Roman"/>
              </a:rPr>
              <a:t>adlı eserindeki Otuz Beş Yaş Şiiri’nin incelemesi özetlenerek sunulacaktı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dikkatlice şiiri birkaç defa okuyunuz. Daha sonra incelemeye geç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68000" y="410760"/>
            <a:ext cx="8496360" cy="453708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OTUZ BEŞ YAŞ ŞİİRİ</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ş otuz beş yolun yarısı ed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ante  gibi ortasındayız ömr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elikanlı çağımızdaki cevh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varmak, yakarmak nafile bug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zünün yaşına bakmadan gider.</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Şakaklarıma kar mı yağdı ne v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enim mi Allahım bu çizgili y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 gözler altındaki mor halkal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den böyle düşman görünürsün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ıllar yılı dost bildiğim ayna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000" y="339840"/>
            <a:ext cx="8496360" cy="4680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Zamanla nasıl değişiyor ins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ngi resmime baks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 o günler, o şevk, o heyec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güler yüzlü ad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andır kaygısız olduğum yal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l meyal şeylerden ilk aşk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tırası bile yabancı gel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ta beraber başladığ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ostlarla da yollar ayrıldı bir b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ittikçe artıyor yalnızlığımı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394920" y="483840"/>
            <a:ext cx="8496360" cy="439092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kyüzünün başka rengi de v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eç farkettim taşın s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Su insanı boğar, ateş yak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doğan günün bir d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İnsan bu yaşa gelince anl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Ayva sarı nar kırmızı sonbah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yıl biraz daha benimsediğ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 dönüp duruyor havada kuşl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n çıktı bu cenaze? Ölen k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kaçıncı bahçe gördüm tarüm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24000" y="484200"/>
            <a:ext cx="864072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ylersin ölüm herkesin b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Uyudun uyanamad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imbilir nerde, nasıl, kaç y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ir namazlık saltanat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Taht misali o musalla t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Cahit Sıtkı TARANC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339840"/>
            <a:ext cx="8064720" cy="4680000"/>
          </a:xfrm>
          <a:prstGeom prst="rect">
            <a:avLst/>
          </a:prstGeom>
          <a:noFill/>
          <a:ln w="0">
            <a:noFill/>
          </a:ln>
        </p:spPr>
        <p:txBody>
          <a:bodyPr lIns="68760" rIns="68760" tIns="34200" bIns="342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2060"/>
                </a:solidFill>
                <a:latin typeface="Calibri"/>
              </a:rPr>
              <a:t>Şiirin İncelenmesi</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Otuz Beş Yaş Şiiri</a:t>
            </a:r>
            <a:r>
              <a:rPr b="0" lang="tr-TR" sz="2200" spc="-1" strike="noStrike">
                <a:solidFill>
                  <a:srgbClr val="000000"/>
                </a:solidFill>
                <a:latin typeface="Calibri"/>
              </a:rPr>
              <a:t>’nde </a:t>
            </a:r>
            <a:r>
              <a:rPr b="0" lang="tr-TR" sz="2200" spc="-1" strike="noStrike">
                <a:solidFill>
                  <a:srgbClr val="000000"/>
                </a:solidFill>
                <a:latin typeface="Calibri"/>
              </a:rPr>
              <a:t>	</a:t>
            </a:r>
            <a:r>
              <a:rPr b="0" lang="tr-TR" sz="2200" spc="-1" strike="noStrike">
                <a:solidFill>
                  <a:srgbClr val="000000"/>
                </a:solidFill>
                <a:latin typeface="Calibri"/>
              </a:rPr>
              <a:t>Cahit Sıtkı, kendisini konu almıştır.  İkinci bölümde de görüldüğü üzere aynada uzun uzun kendini seyrediyor, yüzünün nasıl bozulduğunu üzülerek görüyor, dünya ve dostları ile münasebetlerinin değiştiğini fark ederek, acı bir ironi ile hayatın faniliğini ve ölümü düşünüyor.</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Bu duyuş tarzı, Tarancı’nın sadece bu şiirine de has değildir. O, hemen hemen bütün şiirlerinde ölüm ve fanilik temini ele almıştır. </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Otuz beş Yaş Şiiri’nde ne varlık ötesi âlem fikri, ne Tanrı, ne de tarihî ve sosyal bir çevre vardır. Cahit Sıtkı, hayatındaki ve vücudundaki değişimleri, fâni bir varlık oluşunu ve ölümünü ıstırap duyarak, fakat hiçbir metafizik fikre kapılmadan ve teselli aramadan âdeta çıplak bir gözle seyredi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000" y="411120"/>
            <a:ext cx="7775640" cy="439272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600" spc="-1" strike="noStrike">
                <a:solidFill>
                  <a:srgbClr val="000000"/>
                </a:solidFill>
                <a:latin typeface="Calibri"/>
              </a:rPr>
              <a:t>	</a:t>
            </a:r>
            <a:r>
              <a:rPr b="0" lang="tr-TR" sz="2400" spc="-1" strike="noStrike">
                <a:solidFill>
                  <a:srgbClr val="000000"/>
                </a:solidFill>
                <a:latin typeface="Calibri"/>
              </a:rPr>
              <a:t>Cahit Sıtkı ve Orhan Veli neslinde artık dine ve tarihe karşı bir inanç yoktu. Onlar için sadece «yaşanılan an» önemliydi. Bu nesil «yaşama sevinci»ni adeta bir din haline getirmişlerdi. Fakat ölüm gerçekti ve sosyal sefalet ortadaydı. Bunlar yaşanılan hayatın tatlı aşına zehir katıyordu.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sosyal konularla pek meşgul olmamıştır. Eserlerinde sık sık ele aldığı tem, «ölüme karşı yaşanılan hayatın güzelliği» fikridir. O, yaşamak şartıyla her mihneti kabule razıdı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nın üslubu son derece açık ve sadedir. Bunun sebebi, onun bizzat varlığı güzel bulması ve teşbih, istiare, mecaz gibi sanatlarla süslemeğe lüzum görmemesid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95280" y="627120"/>
            <a:ext cx="7848720" cy="394344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Bir gün şair, Dante gibi ömrünün yarısına geldiğini fark eder, aynada çehresinin nasıl bozulduğunu görür (birinci ve ikinci bölüm).  Sonra eski günlerini, hayal meyal şeylerden ilk aşkını hatırlar (üçüncü ve dördüncü bölüm).    Daha sonra tekrar hâlihazıra döner.  Dünyayı fanilik duygusunun arkasından seyreder (beşinci ve altıncı bölüm). Neticede şiir, önceden bilinen gerçekle yani ölümle son bulu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e hakim olan zaman şu andır. Otuz beş yaş, yolun ortasında olma durumu, mazi ve istikbale (geçmiş ve geleceğe) bakışı tayin edici bir rol oyn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1:00:44Z</dcterms:created>
  <dc:creator>hsn</dc:creator>
  <dc:description/>
  <dc:language>en-US</dc:language>
  <cp:lastModifiedBy>pc</cp:lastModifiedBy>
  <dcterms:modified xsi:type="dcterms:W3CDTF">2018-04-23T19:29:26Z</dcterms:modified>
  <cp:revision>128</cp:revision>
  <dc:subject/>
  <dc:title>3.HAFTA-CÜMLE TÜRLERİ VE CÜMLE ÇÖZÜMLEMELERİ</dc:title>
</cp:coreProperties>
</file>